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B5F-0008-4E95-9277-8DA2EDB2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F032-E854-473C-B523-07CDA0E9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458-4B8C-46C3-9C91-40E5B4A8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64D-11F4-488C-8E16-2973CD63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7EB6-6A97-41EE-8906-6ED6E071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721-B45B-4E0D-AF20-1472734B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5BC-9744-468F-92DF-28D734DD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FE3-4A22-4764-B4A7-128BA9AE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35EA-64E4-42D3-AE7D-9558D10B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2A4-77B1-4D88-AD1A-590D9BB5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867-F98A-4732-BB91-88BA4F46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064-C1B5-40EC-AEC5-40FDC936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3E7C-60CA-409A-BD9A-78E8FF937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8 Ec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. 51 - 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Does Behavior Come Fr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rtain behaviors learned by individ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y se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e se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arm c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ion of home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ilizing innate behavior to discover new information based on environmental stimul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lame will burn you… how do you kn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one told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saw it happen to some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happened to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ive Learning   Habituation   Spatial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ociative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cal Conditi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andom stimulus triggers a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1.bp.blogspot.com/_Q2U5uycu3Uk/Rmbew94Zc8I/AAAAAAAAAUo/Ok-oa67Qvpk/s400/pavlov.gif"/>
          <p:cNvPicPr/>
          <p:nvPr/>
        </p:nvPicPr>
        <p:blipFill>
          <a:blip r:embed="rId1"/>
          <a:stretch/>
        </p:blipFill>
        <p:spPr>
          <a:xfrm>
            <a:off x="2819520" y="2743200"/>
            <a:ext cx="31240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store.perspicuity.com/sections/Products/Press.sized.jpg"/>
          <p:cNvPicPr/>
          <p:nvPr/>
        </p:nvPicPr>
        <p:blipFill>
          <a:blip r:embed="rId1"/>
          <a:stretch/>
        </p:blipFill>
        <p:spPr>
          <a:xfrm>
            <a:off x="3505320" y="2819520"/>
            <a:ext cx="3352680" cy="39592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ociative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rant Conditi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urposeful action (by the organism) triggers a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bit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s exposed repeatedly to something will usually remember what to do or ex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ome less sensitive to certain stimuli what have neither benefit nor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d will not startle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atial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ing behavior as a result of knowing your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st location relative to food, water &amp; pred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dmarks are used to create mental lin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physiology.unimelb.edu.au/lab-molneuro/ratmaze.jpg"/>
          <p:cNvPicPr/>
          <p:nvPr/>
        </p:nvPicPr>
        <p:blipFill>
          <a:blip r:embed="rId1"/>
          <a:stretch/>
        </p:blipFill>
        <p:spPr>
          <a:xfrm>
            <a:off x="1981080" y="3124080"/>
            <a:ext cx="5149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genetic &amp; learned behaviors are influenced by the other, they are not completely indepen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ing Genetics, Learning &amp; 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mal Foraging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enefits of food source compared to risks of that food 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olution favors high benefits and low ris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that obtain the best food at the lowest risk will survive best and reproduce mo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nefits Vs. Ris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this favorab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photography.nationalgeographic.com.au/staticfiles/NGS/Shared/StaticFiles/Photography/Images/POD/f/foraging-prairie-dog-517702-sw.jpg"/>
          <p:cNvPicPr/>
          <p:nvPr/>
        </p:nvPicPr>
        <p:blipFill>
          <a:blip r:embed="rId1"/>
          <a:stretch/>
        </p:blipFill>
        <p:spPr>
          <a:xfrm>
            <a:off x="1371600" y="17146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ing Genetics, Learning &amp; 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ing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ogamy: Single pair bond for at least 1 sea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yga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gyny- One male with many fem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andry- One female with many m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lution favors behavior optimal for the needs of offsp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Ecolog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ies interactions between organisms &amp; their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tic/Bi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tic/Abi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venomous.com/snake/babyti~1.gif"/>
          <p:cNvPicPr/>
          <p:nvPr/>
        </p:nvPicPr>
        <p:blipFill>
          <a:blip r:embed="rId1"/>
          <a:stretch/>
        </p:blipFill>
        <p:spPr>
          <a:xfrm>
            <a:off x="4114800" y="2590920"/>
            <a:ext cx="4921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ing Genetics, Learning &amp; 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xual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, females choose mate with best trait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result, males must compe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ng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Armory          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lution favors behavior optimal for producing the most fit offsp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ing Genetics, Learning &amp; 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ruism = ‘Selflessness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ed with ‘packs’ or colonies in which members undergo acts of selflessness for the benefit of their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ning calls: Save the group but may call attention to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fully understood from evolutionary view, but many theories ex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logy &amp; Con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ecautionary Principle: “Think before you a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cations to everyday deci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logical frame: If we destroy species today, we will never know what potential good they could have in the fu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http://blog.webosaurs.com/wp-content/uploads/2009/11/rainforest.jpg"/>
          <p:cNvPicPr/>
          <p:nvPr/>
        </p:nvPicPr>
        <p:blipFill>
          <a:blip r:embed="rId1"/>
          <a:stretch/>
        </p:blipFill>
        <p:spPr>
          <a:xfrm>
            <a:off x="2514600" y="3809880"/>
            <a:ext cx="4200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. 51: Behavi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havior: What we do, how we do it, and why we do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ology = Behavioral Ec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forms of questions to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ximate: What causes behavior and how is it maintain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ltimate: Why did the behavior develop through ti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http://richardwiseman.files.wordpress.com/2009/05/question-mark3a.jpg"/>
          <p:cNvPicPr/>
          <p:nvPr/>
        </p:nvPicPr>
        <p:blipFill>
          <a:blip r:embed="rId1"/>
          <a:stretch/>
        </p:blipFill>
        <p:spPr>
          <a:xfrm>
            <a:off x="7315200" y="2209680"/>
            <a:ext cx="154764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Does Behavior Come Fr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-wired for certain behavi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studies show most behaviors are encoded in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ing a parent after h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ying to obtain a resour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wimming after h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can be altered by changes in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http://www.funnytheworld.com/2007/Mar/Lorenz.gif"/>
          <p:cNvPicPr/>
          <p:nvPr/>
        </p:nvPicPr>
        <p:blipFill>
          <a:blip r:embed="rId1"/>
          <a:stretch/>
        </p:blipFill>
        <p:spPr>
          <a:xfrm>
            <a:off x="6019920" y="1219320"/>
            <a:ext cx="251460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 Action Patterns FAP: All or none unlearned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ggered by a Sign Stimu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colorado.edu/intphys/Class/IPHY3730/image/figure1-4.jpg"/>
          <p:cNvPicPr/>
          <p:nvPr/>
        </p:nvPicPr>
        <p:blipFill>
          <a:blip r:embed="rId1"/>
          <a:stretch/>
        </p:blipFill>
        <p:spPr>
          <a:xfrm>
            <a:off x="1295280" y="3429000"/>
            <a:ext cx="594360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inting: Innate behavior having a ‘sensitive period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www.funnytheworld.com/2007/Mar/Lorenz.gif"/>
          <p:cNvPicPr/>
          <p:nvPr/>
        </p:nvPicPr>
        <p:blipFill>
          <a:blip r:embed="rId1"/>
          <a:stretch/>
        </p:blipFill>
        <p:spPr>
          <a:xfrm>
            <a:off x="4876920" y="3048120"/>
            <a:ext cx="3598920" cy="281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familycourtchronicles.com/philosophy/attachment/geese-imprinting.jpg"/>
          <p:cNvPicPr/>
          <p:nvPr/>
        </p:nvPicPr>
        <p:blipFill>
          <a:blip r:embed="rId2"/>
          <a:stretch/>
        </p:blipFill>
        <p:spPr>
          <a:xfrm>
            <a:off x="457200" y="3276720"/>
            <a:ext cx="38862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sis: Moving in response to a stimul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xis: Directed movement response, to or away from stimul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biologycorner.com/resources/pillbug_behaviorchamber.gif"/>
          <p:cNvPicPr/>
          <p:nvPr/>
        </p:nvPicPr>
        <p:blipFill>
          <a:blip r:embed="rId1"/>
          <a:stretch/>
        </p:blipFill>
        <p:spPr>
          <a:xfrm>
            <a:off x="3048120" y="1828800"/>
            <a:ext cx="2152440" cy="1724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exiledonline.com/wp-content/uploads/2009/09/cheetah_071.jpg"/>
          <p:cNvPicPr/>
          <p:nvPr/>
        </p:nvPicPr>
        <p:blipFill>
          <a:blip r:embed="rId2"/>
          <a:stretch/>
        </p:blipFill>
        <p:spPr>
          <a:xfrm>
            <a:off x="5181480" y="4419720"/>
            <a:ext cx="327672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aling: Causes changes in others’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: Response, transmission or reception of sig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: Pherom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ditory: Bird 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e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16:29Z</dcterms:created>
  <dc:creator>leanne</dc:creator>
  <dc:description/>
  <dc:language>en-US</dc:language>
  <cp:lastModifiedBy>leanne</cp:lastModifiedBy>
  <dcterms:modified xsi:type="dcterms:W3CDTF">2010-04-07T01:19:27Z</dcterms:modified>
  <cp:revision>13</cp:revision>
  <dc:subject/>
  <dc:title>Unit 8 Ecology</dc:title>
</cp:coreProperties>
</file>